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35A-35F6-41C3-AAD7-CBCA85DD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73D-9D30-4CE1-9E50-0F7CF49B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1DB9-2C88-461D-96FC-20A52FFE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82FD-6E8F-4F87-8EFD-5979B8C0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9868-CB87-4B92-BB2B-CBC607F6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D717-2E4F-4F0C-867E-07545164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B0D3-ECBF-4351-AD76-6F1C1378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8BA6-EEB5-4CE6-B44B-B1C5060F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7F36-71BB-4341-882F-EFEB0913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6325-AC80-4D0D-B38D-1A2F5D57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825A-9A5E-49D8-9524-1478EED2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3AF-2B1E-45C4-AED9-1162D582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1A61-892B-403B-ABBA-73B89FE3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CBF6-B7D2-441D-9419-7F706B1A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CF79-D0FA-43A2-9740-F4191C9D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5C66-53AF-41A2-A4D3-92FFFB87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BCDD-2E71-4B29-BE2B-3D2E2CE9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C6BB-FC26-4AEB-AFE0-992DD1BB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D54-217D-48A2-9FBA-FD2B5149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C02-CB61-48B0-AA3B-9334B9D4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761-BD24-4808-B981-EEA15DD5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50A4-70C9-4EDF-A14A-3E6722DF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49F-5088-4741-81FF-A3D56462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699-822A-4167-A49D-28CE7892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858E-3DA3-422A-AD25-266FB32593EE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CB65-C670-4459-95C0-807493070505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231840" y="993600"/>
            <a:ext cx="8875800" cy="2749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457200" y="-79200"/>
            <a:ext cx="8478720" cy="246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0" y="2057400"/>
          <a:ext cx="9144000" cy="4800600"/>
        </p:xfrm>
        <a:graphic>
          <a:graphicData uri="http://schemas.openxmlformats.org/drawingml/2006/table">
            <a:tbl>
              <a:tblPr/>
              <a:tblGrid>
                <a:gridCol w="1306440"/>
                <a:gridCol w="1306440"/>
                <a:gridCol w="1306800"/>
                <a:gridCol w="1304640"/>
                <a:gridCol w="1306800"/>
                <a:gridCol w="1306440"/>
                <a:gridCol w="1306440"/>
              </a:tblGrid>
              <a:tr h="843120">
                <a:tc gridSpan="3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FUJITA SCA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DERIVED EF SCA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OPERATIONAL EF SCA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F Numb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astest 1/4-mile (mph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 Second Gust (mph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 Numb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 Second Gust (mph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 Numb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 Second Gust (mph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4953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0-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5-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5-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5-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4935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3-1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9-1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6-1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6-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4935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3-15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8-1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0-1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1-1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4939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58-2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62-2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38-1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36-1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4935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8-2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10-2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68-1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66-2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4620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61-3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62-3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0-2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ver 2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zardous Material Accid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frastructure Malfunc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n-Wildland Fi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487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Hazardous Material Accid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ssential Materials for Socie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ishandling and Accid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tential Catastroph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3124080" y="641664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633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Grid Infrastructure Malfunc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rids that are Essential to Domestic Commerc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nancial Consequenc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Footer Placeholder 1"/>
          <p:cNvSpPr/>
          <p:nvPr/>
        </p:nvSpPr>
        <p:spPr>
          <a:xfrm>
            <a:off x="3124080" y="641664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523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Non-Wildland Fi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pulated Area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uman-Constructed Infrastructu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requent and Hazardo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pensive and Leth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2279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243792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ventional Weap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mon Explosiv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emical, Biological, Radiological, and Nuclear Haz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Footer Placeholder 1"/>
          <p:cNvSpPr/>
          <p:nvPr/>
        </p:nvSpPr>
        <p:spPr>
          <a:xfrm>
            <a:off x="3124080" y="641664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2" descr=""/>
          <p:cNvPicPr/>
          <p:nvPr/>
        </p:nvPicPr>
        <p:blipFill>
          <a:blip r:embed="rId1"/>
          <a:stretch/>
        </p:blipFill>
        <p:spPr>
          <a:xfrm>
            <a:off x="-42840" y="609480"/>
            <a:ext cx="9448920" cy="2005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7200" y="274320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onventional Weap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rear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ubmachine  Gun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ssault Rifl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ocket-Propelled Grenad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mmon Explosiv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lastic Explosiv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NFO Explosiv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-42840" y="609480"/>
            <a:ext cx="9448920" cy="2005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274320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hemical, Biological, Radiological, and Nuclear Haz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iological Ag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hemical Ag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adiological Ag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uclear Weap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Footer Placeholder 2"/>
          <p:cNvSpPr/>
          <p:nvPr/>
        </p:nvSpPr>
        <p:spPr>
          <a:xfrm>
            <a:off x="3124080" y="641664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298440" y="225360"/>
            <a:ext cx="8467560" cy="1378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ad00"/>
                </a:solidFill>
                <a:latin typeface="Book Antiqua"/>
              </a:rPr>
              <a:t>Homeland Security and the All-Hazards Umbrella</a:t>
            </a:r>
            <a:endParaRPr b="0" lang="en-US" sz="6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Footer Placeholder 1"/>
          <p:cNvSpPr/>
          <p:nvPr/>
        </p:nvSpPr>
        <p:spPr>
          <a:xfrm>
            <a:off x="3200400" y="640080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358120" cy="2279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ackground: Recent Difficulties in Disaster Relie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l-Hazards Emergency Management: Core Concep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358120" cy="2547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2742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Background: Recent Difficulties in Disaster Relie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ior to September 11, 2001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urricane Andrew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urricane Katrin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358120" cy="2547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2590560"/>
            <a:ext cx="8229600" cy="37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All-Hazards Emergency Management: Core Concep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paredness Plann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itigation of Ris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mergency Response Oper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covery Syste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opical Cyclonic Stor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arthquak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rnado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loo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ldland Fi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859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Tropical Cyclonic Stor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opical Depressions, Storms, Hurrican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perstorm Sand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Earthquak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odified Mercalli Intensity Sca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ichter Sca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2060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205704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Tornado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nhanced Fujita-Pearson Sca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pril 2011 and May 2013 Outbrea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Floo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lood Zon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ecial Flood Hazard Area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3124080" y="641664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2060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Wildland Fi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uses: Human and Natur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tential for Serious Infrastructure Damag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Footer Placeholder 1"/>
          <p:cNvSpPr/>
          <p:nvPr/>
        </p:nvSpPr>
        <p:spPr>
          <a:xfrm>
            <a:off x="3124080" y="641664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8:52:59Z</dcterms:created>
  <dc:creator>gmartin</dc:creator>
  <dc:description/>
  <dc:language>en-US</dc:language>
  <cp:lastModifiedBy>Julie Griffin</cp:lastModifiedBy>
  <dcterms:modified xsi:type="dcterms:W3CDTF">2014-07-01T00:19:01Z</dcterms:modified>
  <cp:revision>133</cp:revision>
  <dc:subject/>
  <dc:title>Slide 1</dc:title>
</cp:coreProperties>
</file>